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D43-507D-43DF-A962-C85531F4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D88-BB14-4E29-8D46-5887817D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266-43EF-483E-9CE8-003FE634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35E-5F89-4399-98DB-90390D61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97C1-C27E-4EF6-A0FF-6A21F6BF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F5BD-A451-439D-85B8-D43449E8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BF11-2AFD-42D6-988A-2B2D5C79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17F6-D68F-49C9-9529-7F92E4C1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199C-0678-497D-A654-503B00F0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1FAB-26F2-4E77-95C7-C6DEE9A7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3883-B575-4520-B166-1EF31DCD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BA0-00C2-4DE1-8EA9-2064E95F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538E-D524-4841-A07F-7893FEDB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B24A-A4B4-4E06-BA35-82D0EB70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C4B5-1B21-4207-947D-9ECB8A3F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95D4-EE85-440D-B32E-0D303583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80A8-0866-4CA7-95CB-D61122DA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975-E196-4960-9295-B23433D2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9AE-972A-49CA-A5D2-52CDD733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9DE-215E-43B1-AE06-7563CDA4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8B3-E9E8-4BF7-90BF-CB97BBA6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02F-A1C5-4415-8B67-F94FE80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6B6-4B3D-4CCE-B733-BD69C549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DA5-F820-4110-871E-C78BD7A0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AB81-480C-43B0-B8E4-F01E20C477F9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260D-B408-4AE3-A5D6-E48B3C3188CB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260280"/>
            <a:ext cx="6048720" cy="9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 u="sng">
                <a:solidFill>
                  <a:srgbClr val="ffffff"/>
                </a:solidFill>
                <a:uFillTx/>
                <a:latin typeface="Tahoma"/>
                <a:cs typeface="AF_Diwani"/>
              </a:rPr>
              <a:t>نشيد المناولة: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Tahoma"/>
              </a:rPr>
              <a:t>قام الل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لتَ المجدَ يا إشعاع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بِ الهاد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تَّ جسماً فوقَ العود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بّاً فاد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وتٌ أعطى الـموتى بهجاً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ضاءَ الوعدُ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ورُ الوَعدِ ملءَ الدُّنيا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كَ المجدُ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يدُ الفصحِ بهجُ الروح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عدَ الآل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ذكراكَ يا ابنَ الله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ضَ الإله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لثالوثِ طابَ الـمدح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ذبَ الأنغ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شكرانُ ملءَ الدنيا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لءَ الأيام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 اللهُ من مثواه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َ الجبّار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حيي الـموتى حولَ القب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بَّ الأنوار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جدُ الربِّ هزَّ العمق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زَّ الأقط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اجُ الـموتِ أهوى أمس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زءاً وانهار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ن أقبَلنَ بالأطياب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ادى السّاه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م تطلُبْنَ بينَ الـموت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حيَّ القاد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خذنَ البشرى للأحبابِ: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َ الظاف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روي الدنيا من يَنبوع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جنبِ الطّاهر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ضُ النّورِ نصفَ الليل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ولَ القب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ُ الليلِ الـماحي النّور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لظّه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ـمّا ماتَ عِندَ الظّه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ليلُ حل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ـمّا قامَ نِصفَ الليل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نّورُ هل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َ القدسِ روحَ الحقّ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بدا الأنو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 أعطَيتَ أهلَ البشر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اً من ن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دِّد فينا وسمَ الربّ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لمَ الأبر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إنجيلِ والصَّليب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َهدي الأفك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9:52:31Z</dcterms:created>
  <dc:creator>Charbel Azar</dc:creator>
  <dc:description/>
  <dc:language>en-US</dc:language>
  <cp:lastModifiedBy>Charbel Azar</cp:lastModifiedBy>
  <dcterms:modified xsi:type="dcterms:W3CDTF">2002-07-03T11:15:24Z</dcterms:modified>
  <cp:revision>5</cp:revision>
  <dc:subject/>
  <dc:title>PowerPoint Presentation</dc:title>
</cp:coreProperties>
</file>